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579-EB8B-4508-8829-C035BFAD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0192-AB7E-4738-A5EF-EBACE20B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E02-FFD4-47A4-A8CB-03A187D5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1A8-648E-468A-9F9A-2BBD905E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D26-C7AC-4C6B-8F75-8E08912D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E139-26CC-4063-B0BD-E48898DF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AA73-70DF-4BBC-A38D-157E4AD8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78F-D415-4D1B-A940-C0B43374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838-0166-4533-9857-6A381FC5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F83-BB0C-491B-BF91-AF9C4CE5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1F6A-27D3-43A1-94E7-6012A89C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120-A7D4-4A08-A408-35DFDBAA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24A8-420B-41B5-B4C3-5C16AD7B5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tstripsforschools.com/" TargetMode="External"/><Relationship Id="rId2" Type="http://schemas.openxmlformats.org/officeDocument/2006/relationships/hyperlink" Target="http://www.bitstripsforschool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lickr.com/people/en321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21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itstrips For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itstripsforschool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8243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Verdana"/>
              </a:rPr>
              <a:t>Media Literacy Triang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2438280"/>
            <a:ext cx="2895840" cy="27432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7809800">
            <a:off x="3087000" y="3390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Verdana"/>
                <a:ea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3630000">
            <a:off x="4772160" y="3662280"/>
            <a:ext cx="18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Verdana"/>
                <a:ea typeface="Arial"/>
              </a:rPr>
              <a:t>Product</a:t>
            </a:r>
            <a:r>
              <a:rPr b="1" lang="en-US" sz="1800" spc="-1" strike="noStrike">
                <a:solidFill>
                  <a:srgbClr val="009999"/>
                </a:solidFill>
                <a:latin typeface="Verdana"/>
                <a:ea typeface="Arial"/>
              </a:rPr>
              <a:t>i</a:t>
            </a:r>
            <a:r>
              <a:rPr b="1" lang="en-US" sz="2400" spc="-1" strike="noStrike">
                <a:solidFill>
                  <a:srgbClr val="009999"/>
                </a:solidFill>
                <a:latin typeface="Verdana"/>
                <a:ea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9000" y="525780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Verdana"/>
                <a:ea typeface="Arial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6002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ll media messages are construction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ntario Revised Language Curriculum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124080"/>
            <a:ext cx="26668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narrative, recount procedural, persu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character, setting, plot,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values, bel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3124080"/>
            <a:ext cx="2361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copy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5867280"/>
            <a:ext cx="2590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target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638680" y="1600200"/>
            <a:ext cx="3276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ts – establishing (setting), clos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 – colour, 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b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nels – tilt, sha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tters – inferring,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 pattern -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4400" y="380880"/>
            <a:ext cx="4461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9999"/>
                </a:solidFill>
                <a:latin typeface="Arial"/>
              </a:rPr>
              <a:t>Reflective A&amp;E Question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914400"/>
            <a:ext cx="85341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Tahoma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tstrips  -  Assessment for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Bitstrips - Assessment of Learning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omic/Graphic Novel Genre – tool for differentiated assessmen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66880" y="4267080"/>
            <a:ext cx="4148280" cy="2422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35240" y="1714680"/>
            <a:ext cx="4673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35240" y="1714680"/>
            <a:ext cx="4673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6477120"/>
            <a:ext cx="465300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lickr.com/people/en321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2:17:18Z</dcterms:created>
  <dc:creator>OCDSB</dc:creator>
  <dc:description/>
  <dc:language>en-US</dc:language>
  <cp:lastModifiedBy>OCDSB</cp:lastModifiedBy>
  <dcterms:modified xsi:type="dcterms:W3CDTF">2011-02-11T22:39:19Z</dcterms:modified>
  <cp:revision>2</cp:revision>
  <dc:subject/>
  <dc:title>Bitstrips For Schools</dc:title>
</cp:coreProperties>
</file>